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B9E1-ACE3-4B31-A968-17996D119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38F2-52A2-4341-994D-E50A1A0F0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55A1-4DFB-4DCE-B33D-DB7C47FCD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C7C1-C694-4415-B902-1E1417DD4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DFA93-9849-47E5-9E32-4033E2ED0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AC961-B854-4317-A745-654C45483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EB0D4-9113-47FA-82AD-AECC11CA2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DCE36-0AFA-4A15-90D7-D92492B6A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203B2-30DB-4F1B-9584-145B9E822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57157-0DEA-4140-829A-FA8DF3225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D3DF7-65FB-4BB5-B368-79B9BF67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7B7B-A757-4B86-B842-A25155669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CE1DA-4A73-4632-9946-D0BD7F8F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EC02B-7B5D-4823-9DB5-39960708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A109C-8EB7-44FF-B84C-57DACAE1B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530E5-03DC-4629-BC21-3C088AA81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18FFB-C28F-4A80-9A83-E7D187359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76C3-68C0-4FB9-BAC2-14AD5FB62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0F17-73D6-40C8-BE19-9415FD92A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7877-E2CB-4864-B441-4903CB6D0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5A54-4C1A-4A31-BE74-9A41C4EE6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7CDF-4F0D-4F04-BA28-12E620ED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C355-E861-4EB6-9902-A0270E3D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E40B-F7EC-4A5B-8604-3E6B2143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5C45E-2C0E-4FB1-B536-6C823E6B64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2D8D7-F536-4DF9-B7DD-1853112CA3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ff"/>
                </a:solidFill>
                <a:latin typeface="Arial"/>
                <a:ea typeface="標楷體"/>
              </a:rPr>
              <a:t>邏輯問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86000" y="4696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04213043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喻珮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760" y="-5904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93120" y="941400"/>
            <a:ext cx="3432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因為每句供詞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說的第一句話先確定兇手一定在四人之中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富翁家的時候富翁還活著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離開的時候富翁都已經死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前兩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後兩個去的，兇手是第二個或第三個去的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二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一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二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三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三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四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可能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，兇手比他晚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49320" y="2208240"/>
            <a:ext cx="4564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5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與邏輯無關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3320" y="1271520"/>
            <a:ext cx="7953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葬禮的故事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母親去世了，姐妹倆一個十八歲、一個十二歲，她倆打起精神舉辦葬禮，在葬禮上出現了一個俊帥的男子，是母親友人的兒子，姊姊上前向男子致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喪禮之後一個月，妹妹突然遇害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為什麼？兇手是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52560" y="3276720"/>
            <a:ext cx="749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因為姊姊喜歡那位男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所以想再辦一次喪禮，就能再見到那位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960" y="271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新細明體"/>
              </a:rPr>
              <a:t>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Arial"/>
                <a:ea typeface="新細明體"/>
              </a:rPr>
              <a:t>邏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2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傳統上，邏輯被作為哲學的一個分支來研究，和文法與修辭一同被稱為古典三學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自十九世紀中葉，「形式邏輯」已被作為數學基礎而被研究，當中經常被稱之為符號邏輯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903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，阿弗烈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諾夫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懷海德與伯特蘭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羅素寫成了《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rincipia Mathematica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》，試圖將邏輯形式地建立成數學的基石。不過，後來大部份都被集合論所取代掉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當對形式邏輯的研究漸漸地擴張了之後，研究也不再只侷限於基礎的議題，之後的各個數學領域被合稱為數理邏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形式邏輯的發展和其在電腦上的應用是電腦科學的基礎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假設有一個池塘，裡面有無窮多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現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空水壺，容積分別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如何只用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水壺從池塘里取得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 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原文網址：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https://kknews.cc/zh-tw/education/kxeoylb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4760"/>
            <a:ext cx="822960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由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，剩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把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然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把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裝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滿，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由於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因此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只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能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然後將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入空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再灌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最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一同去住宿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每個人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去支付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住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宿費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老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說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當天有優惠住宿費只需要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就好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請小弟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小弟心想她們並不知道打折的事情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所以就偷偷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收起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只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表示她們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 x 90 = 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另外還有小弟拿走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70 + 20 = 2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 - 290 = 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少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請問這個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被誰拿走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6080" y="-144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1665360"/>
            <a:ext cx="3557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73560" y="1679400"/>
            <a:ext cx="4624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講清楚一點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計算上沒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但是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去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比是沒有意義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已經順利退還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此金額的總數就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- 30 = 270 = 3 x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則是包括在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中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當然不可以用加法加上去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6080" y="1665360"/>
            <a:ext cx="375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x 90 = 27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絕對沒有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這裡沒有意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- 20 =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是她們住宿所花的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簡單的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題目用加法是誤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減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85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在數學邏輯問題中，答案都不像題目中看似的那麼簡單，但是我們總能從題目所提供的條件，來找到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問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４＋６＝６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１＝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８＋２＝２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８＝８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那麼，請問１３－３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3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26800" y="1655640"/>
            <a:ext cx="66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6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也就是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再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=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2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=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88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1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=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3-3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3=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3440" y="-81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5080" y="946080"/>
            <a:ext cx="7072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位富翁在自家被殺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當天只有四個人去過富翁家，而且都是獨自去的，沒有人能幫他們洗清嫌疑，於是警方傳訊了這四個嫌疑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這四人各自做了兩句供詞，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後發現其實四人說的每一句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知道到底是誰殺害了富翁嗎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5T18:24:42Z</dcterms:created>
  <dc:creator>User</dc:creator>
  <dc:description/>
  <dc:language>en-US</dc:language>
  <cp:lastModifiedBy/>
  <dcterms:modified xsi:type="dcterms:W3CDTF">2018-05-16T00:14:1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28-9.1.0.4811</vt:lpwstr>
  </property>
</Properties>
</file>