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6911-F250-450F-B5FB-4541D5667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E91A-338A-4E60-A74C-A4C7F0AFB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4216-C228-4F42-B2B7-B54D9216D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9587-501C-4366-889B-375347D12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408C7-8BB7-4CCA-BF1F-7B9BF7CEE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5D5DF-3ED1-413E-83B7-B0E7A76FF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C2157-BC9D-43C8-B463-67425CC05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09115-0845-4C88-8D73-C4460366D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4627C-832F-499C-8370-C9ACCA978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94F45-03FB-4B2D-B9B2-752525333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3D39A-5FC0-471F-9775-BAAAB4BD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2106-B674-42FC-A1DD-B129E49A1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3AE64-BEAF-46F9-B6F4-32B321D6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CFD8A-901C-4691-9970-0EFC2DE4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53C12-076C-4B99-A1B3-005A63A2C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2CF80-A07D-4F06-AA3E-2CF04F109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FA6C7-E4E4-4318-8082-F35D5771C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9493-3026-4228-AEDD-3AC208BB0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5883-72F0-4166-AF85-CDDF12A4F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2041-E9C9-4408-B622-4AAA78C1B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003D-1C64-4082-901C-A05D7424A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1E91-36E2-4791-B329-C2FC5A8F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539C-0A8D-4B88-8868-E372798B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BB48-28A9-4AB4-AA72-E4E9908B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5E38A-8D17-421A-AD0C-3E45DDD5BF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F596A-8C75-4064-B487-11CDEECAC6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ff"/>
                </a:solidFill>
                <a:latin typeface="Arial"/>
                <a:ea typeface="標楷體"/>
              </a:rPr>
              <a:t>邏輯問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86000" y="469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04213043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喻珮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760" y="-5904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93120" y="941400"/>
            <a:ext cx="3432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為每句供詞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說的第一句話先確定兇手一定在四人之中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富翁家的時候富翁還活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離開的時候富翁都已經死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前兩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後兩個去的，兇手是第二個或第三個去的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二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一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二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三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三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四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可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，兇手比他晚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49320" y="2208240"/>
            <a:ext cx="4564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5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與邏輯無關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3320" y="1271520"/>
            <a:ext cx="7953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葬禮的故事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親去世了，姐妹倆一個十八歲、一個十二歲，她倆打起精神舉辦葬禮，在葬禮上出現了一個俊帥的男子，是母親友人的兒子，姊姊上前向男子致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喪禮之後一個月，妹妹突然遇害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為什麼？兇手是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52560" y="3276720"/>
            <a:ext cx="749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因為姊姊喜歡那位男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所以想再辦一次喪禮，就能再見到那位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271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Arial"/>
                <a:ea typeface="新細明體"/>
              </a:rPr>
              <a:t>邏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2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傳統上，邏輯被作為哲學的一個分支來研究，和文法與修辭一同被稱為古典三學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自十九世紀中葉，「形式邏輯」已被作為數學基礎而被研究，當中經常被稱之為符號邏輯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903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，阿弗烈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諾夫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懷海德與伯特蘭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羅素寫成了《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rincipia Mathematica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》，試圖將邏輯形式地建立成數學的基石。不過，後來大部份都被集合論所取代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當對形式邏輯的研究漸漸地擴張了之後，研究也不再只侷限於基礎的議題，之後的各個數學領域被合稱為數理邏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形式邏輯的發展和其在電腦上的應用是電腦科學的基礎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假設有一個池塘，裡面有無窮多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現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空水壺，容積分別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如何只用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水壺從池塘里取得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 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原文網址：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https://kknews.cc/zh-tw/education/kxeoylb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由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，剩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把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然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裝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滿，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由於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因此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只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能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然後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入空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再灌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最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一同去住宿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每個人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去支付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住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宿費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老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說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當天有優惠住宿費只需要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就好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請小弟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小弟心想她們並不知道打折的事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所以就偷偷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收起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只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表示她們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 x 90 = 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另外還有小弟拿走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70 + 20 = 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 - 290 = 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少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請問這個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被誰拿走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6080" y="-144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1665360"/>
            <a:ext cx="3557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73560" y="1679400"/>
            <a:ext cx="462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講清楚一點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計算上沒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但是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去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比是沒有意義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已經順利退還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此金額的總數就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- 30 = 270 = 3 x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則是包括在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中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當然不可以用加法加上去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6080" y="1665360"/>
            <a:ext cx="375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x 90 = 27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絕對沒有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這裡沒有意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- 20 =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是她們住宿所花的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簡單的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題目用加法是誤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減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5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在數學邏輯問題中，答案都不像題目中看似的那麼簡單，但是我們總能從題目所提供的條件，來找到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問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４＋６＝６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１＝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８＋２＝２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８＝８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那麼，請問１３－３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3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26800" y="1655640"/>
            <a:ext cx="66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6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也就是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再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=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2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=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8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1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=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3-3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3=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3440" y="-81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5080" y="946080"/>
            <a:ext cx="7072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位富翁在自家被殺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當天只有四個人去過富翁家，而且都是獨自去的，沒有人能幫他們洗清嫌疑，於是警方傳訊了這四個嫌疑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這四人各自做了兩句供詞，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後發現其實四人說的每一句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知道到底是誰殺害了富翁嗎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5T18:24:42Z</dcterms:created>
  <dc:creator>User</dc:creator>
  <dc:description/>
  <dc:language>en-US</dc:language>
  <cp:lastModifiedBy/>
  <dcterms:modified xsi:type="dcterms:W3CDTF">2018-05-16T00:14:1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28-9.1.0.4811</vt:lpwstr>
  </property>
</Properties>
</file>