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215D-4D4D-4832-B45C-228AA3550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7ED6-682A-4899-9E2D-4060E05F4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FA6D-DA76-4EEE-AF2D-57BFF3046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5266-44D4-460E-95D7-07F337718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E9D2F-4567-4BC1-BBBC-0F6C3D02D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1F131-F4A7-470F-BB39-5D33E6358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FF567-059F-49E0-8916-C757DFD68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2576C-820A-4E11-9EAA-D42C344B2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A79E0-439B-4922-9D58-08493BF59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3BE05-7DE0-4E25-9E33-F197B15CB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89944-74EA-48DB-9D3A-595A689F0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120B-5B63-4A8E-BA5A-82F52615A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74845-2D6F-4F62-ACBC-6EC23FA0A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BF3BD-A372-4B38-BF53-3B85562A3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A6DDC-FB69-4B38-94B7-6E2D12571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25FEB-7A59-4482-8367-AAE896C42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FBC2E-9DB9-44F4-A7B3-80150B9F8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D89A-4864-434A-90A3-98D0BC182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3930-A7F2-4271-B7C6-608A505F2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457E-E30D-47EE-B67F-55BA4F0D5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EB9E-81CB-476B-9D34-D74F6CB30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5470-9B7B-444B-B738-E92FD5C3E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9E32-5C24-4DC6-BE8A-2437CD99D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BE95-43B7-49DC-8B7A-91D78E1C8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1C57D-FB2F-48B3-A09E-E8771C7D88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C1B13-93FE-4B62-931A-24B384CED7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ffffff"/>
                </a:solidFill>
                <a:latin typeface="Arial"/>
                <a:ea typeface="標楷體"/>
              </a:rPr>
              <a:t>邏輯問題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86000" y="4696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04213043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喻珮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6760" y="-5904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93120" y="941400"/>
            <a:ext cx="3432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因為每句供詞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說的第一句話先確定兇手一定在四人之中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到富翁家的時候富翁還活著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離開的時候富翁都已經死了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前兩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後兩個去的，兇手是第二個或第三個去的人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二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一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二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三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三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四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可能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，兇手比他晚去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49320" y="2208240"/>
            <a:ext cx="45640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5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與邏輯無關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3320" y="1271520"/>
            <a:ext cx="7953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【葬禮的故事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母親去世了，姐妹倆一個十八歲、一個十二歲，她倆打起精神舉辦葬禮，在葬禮上出現了一個俊帥的男子，是母親友人的兒子，姊姊上前向男子致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喪禮之後一個月，妹妹突然遇害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為什麼？兇手是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52560" y="3276720"/>
            <a:ext cx="749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因為姊姊喜歡那位男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所以想再辦一次喪禮，就能再見到那位男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7960" y="271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新細明體"/>
              </a:rPr>
              <a:t>E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0000"/>
                </a:solidFill>
                <a:latin typeface="Arial"/>
                <a:ea typeface="新細明體"/>
              </a:rPr>
              <a:t>邏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2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傳統上，邏輯被作為哲學的一個分支來研究，和文法與修辭一同被稱為古典三學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自十九世紀中葉，「形式邏輯」已被作為數學基礎而被研究，當中經常被稱之為符號邏輯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1903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年，阿弗烈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諾夫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懷海德與伯特蘭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羅素寫成了《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Principia Mathematica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》，試圖將邏輯形式地建立成數學的基石。不過，後來大部份都被集合論所取代掉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當對形式邏輯的研究漸漸地擴張了之後，研究也不再只侷限於基礎的議題，之後的各個數學領域被合稱為數理邏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形式邏輯的發展和其在電腦上的應用是電腦科學的基礎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假設有一個池塘，裡面有無窮多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現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空水壺，容積分別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如何只用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水壺從池塘里取得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 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原文網址：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https://kknews.cc/zh-tw/education/kxeoylb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14760"/>
            <a:ext cx="8229600" cy="9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由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，剩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把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，然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把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裝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滿，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由於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因此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只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能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然後將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入空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再灌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最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一同去住宿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每個人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去支付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住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宿費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老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說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當天有優惠住宿費只需要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就好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就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請小弟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小弟心想她們並不知道打折的事情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所以就偷偷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收起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只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表示她們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 x 90 = 2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另外還有小弟拿走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70 + 20 = 2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 - 290 = 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少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請問這個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被誰拿走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6080" y="-1440"/>
            <a:ext cx="82296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43400" y="1665360"/>
            <a:ext cx="3557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73560" y="1679400"/>
            <a:ext cx="4624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講清楚一點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計算上沒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但是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9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去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比是沒有意義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已經順利退還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人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此金額的總數就是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 - 30 = 270 = 3 x 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則是包括在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之中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當然不可以用加法加上去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16080" y="1665360"/>
            <a:ext cx="375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x 90 = 27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絕對沒有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這裡沒有意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- 20 =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是她們住宿所花的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簡單的說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題目用加法是誤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減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85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在數學邏輯問題中，答案都不像題目中看似的那麼簡單，但是我們總能從題目所提供的條件，來找到解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問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４＋６＝６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１＝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８＋２＝２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８＝８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那麼，請問１３－３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3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26800" y="1655640"/>
            <a:ext cx="66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6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也就是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再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=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2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=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88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1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=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3-3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-3=-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33440" y="-813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05080" y="946080"/>
            <a:ext cx="70722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位富翁在自家被殺害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當天只有四個人去過富翁家，而且都是獨自去的，沒有人能幫他們洗清嫌疑，於是警方傳訊了這四個嫌疑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這四人各自做了兩句供詞，如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後發現其實四人說的每一句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你知道到底是誰殺害了富翁嗎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5T18:24:42Z</dcterms:created>
  <dc:creator>User</dc:creator>
  <dc:description/>
  <dc:language>en-US</dc:language>
  <cp:lastModifiedBy/>
  <dcterms:modified xsi:type="dcterms:W3CDTF">2018-05-16T00:14:1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28-9.1.0.4811</vt:lpwstr>
  </property>
</Properties>
</file>