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68E8-F375-4194-B4FE-BDBDDE1B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0392-FB6E-4D5E-B7E9-33D1D85C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E0D3-E935-435C-9C52-8DCC9B94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00AC-1A22-4958-984D-8B263A6E7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7823-28B5-489F-9E6B-E731DAF71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D8265-5D3D-4860-AEC2-9CA5EB18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DB751-2ACB-4FC3-A96D-25B6EC3CF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8D8F-5841-4DC1-A805-47708321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1B410-9B4D-497B-83B3-BC9D1408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1CD6-224E-4FC5-B7C7-0AC82C43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D2AFF-A510-4C2A-80EA-6F4EE052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E445-0A80-40D2-9D85-BFCEF097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91013-CA8D-4278-85DB-4F14A6C40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1F7E6-DC08-40B0-BC8F-369A6358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DDF1-43AA-41B1-AFEB-E14D659D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919AA-AEE5-4A71-A412-FAE96B98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E220-0883-409B-BB95-D7CBEAEB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726E-BF5B-4B1B-945B-07DBE0A5E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87E6-5A07-49C1-8D99-12B9D07A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7706-1B79-412C-B5E7-5654CE1A6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5A27-EB8D-481F-9ED8-D0B6DE33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08B6-8D6B-48AA-A88A-2DA6CB01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874-3DAB-47EE-83CE-FE4C001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D7CB-70C1-48BD-8C93-9475AF34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E6BA9-1DAC-437D-AAF7-B5D18511F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2B796-2789-4FD3-B190-1707F83EF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7200" spc="-1" strike="noStrike">
                <a:solidFill>
                  <a:srgbClr val="ffffff"/>
                </a:solidFill>
                <a:latin typeface="Arial"/>
                <a:ea typeface="標楷體"/>
              </a:rPr>
              <a:t>邏輯問題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86000" y="4696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04213043</a:t>
            </a:r>
            <a:r>
              <a:rPr b="0" lang="zh-TW" sz="2800" spc="-1" strike="noStrike">
                <a:solidFill>
                  <a:srgbClr val="ffffff"/>
                </a:solidFill>
                <a:latin typeface="Arial"/>
              </a:rPr>
              <a:t>喻珮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66760" y="-59040"/>
            <a:ext cx="8229600" cy="89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93120" y="941400"/>
            <a:ext cx="34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因為每句供詞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說的第一句話先確定兇手一定在四人之中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到富翁家的時候富翁還活著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離開的時候富翁都已經死了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前兩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後兩個去的，兇手是第二個或第三個去的人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二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一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二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是第三個去的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三個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是第四個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可能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的第一句話可知，兇手比他晚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所以兇手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49320" y="2208240"/>
            <a:ext cx="4564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160"/>
            <a:ext cx="8229600" cy="8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與邏輯無關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新細明體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33320" y="1271520"/>
            <a:ext cx="795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【葬禮的故事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母親去世了，姐妹倆一個十八歲、一個十二歲，她倆打起精神舉辦葬禮，在葬禮上出現了一個俊帥的男子，是母親友人的兒子，姊姊上前向男子致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喪禮之後一個月，妹妹突然遇害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為什麼？兇手是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52560" y="327672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因為姊姊喜歡那位男子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所以想再辦一次喪禮，就能再見到那位男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7960" y="271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新細明體"/>
              </a:rPr>
              <a:t>En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000000"/>
                </a:solidFill>
                <a:latin typeface="Arial"/>
                <a:ea typeface="新細明體"/>
              </a:rPr>
              <a:t>邏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26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傳統上，邏輯被作為哲學的一個分支來研究，和文法與修辭一同被稱為古典三學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自十九世紀中葉，「形式邏輯」已被作為數學基礎而被研究，當中經常被稱之為符號邏輯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903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年，阿弗烈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諾夫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懷海德與伯特蘭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·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羅素寫成了《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rincipia Mathematica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》，試圖將邏輯形式地建立成數學的基石。不過，後來大部份都被集合論所取代掉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當對形式邏輯的研究漸漸地擴張了之後，研究也不再只侷限於基礎的議題，之後的各個數學領域被合稱為數理邏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微軟正黑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形式邏輯的發展和其在電腦上的應用是電腦科學的基礎。</a:t>
            </a:r>
            <a:r>
              <a:rPr b="0" lang="zh-TW" sz="24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假設有一個池塘，裡面有無窮多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現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空水壺，容積分別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如何只用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個水壺從池塘里取得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的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     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原文網址：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https://kknews.cc/zh-tw/education/kxeoylb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14760"/>
            <a:ext cx="8229600" cy="9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由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，剩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把這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空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，然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把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裝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滿，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由於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有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因此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只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能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水，然後將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再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入空的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裡面，再灌滿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向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裡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倒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最後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剩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一同去住宿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每個人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去支付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住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宿費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老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說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當天有優惠住宿費只需要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就好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就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請小弟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小弟心想她們並不知道打折的事情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所以就偷偷把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收起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只退還給她們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個人各拿回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表示她們各出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 x 90 = 2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另外還有小弟拿走的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270 + 20 = 2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300 - 290 = 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，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少了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請問這個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元被誰拿走了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6080" y="-1440"/>
            <a:ext cx="82296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1665360"/>
            <a:ext cx="3557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73560" y="1679400"/>
            <a:ext cx="4624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講清楚一點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計算上沒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但是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9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去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比是沒有意義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有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已經順利退還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因此金額的總數就是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- 30 = 270 = 3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元則是包括在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中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當然不可以用加法加上去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16080" y="1665360"/>
            <a:ext cx="375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x 90 = 27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絕對沒有問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+ 20 = 290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這裡沒有意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70 - 20 =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這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是她們住宿所花的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簡單的說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題目用加法是誤導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減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才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8568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在數學邏輯問題中，答案都不像題目中看似的那麼簡單，但是我們總能從題目所提供的條件，來找到解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問題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新細明體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４＋６＝６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１＝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８＋２＝２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３＋８＝８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那麼，請問１３－３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A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26800" y="1655640"/>
            <a:ext cx="665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6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也就是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4+6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再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6=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1=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=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2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+2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2=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88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  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3+8=11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8=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所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13-3=10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乘以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-3=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33440" y="-81360"/>
            <a:ext cx="822960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Q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5080" y="946080"/>
            <a:ext cx="70722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位富翁在自家被殺害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當天只有四個人去過富翁家，而且都是獨自去的，沒有人能幫他們洗清嫌疑，於是警方傳訊了這四個嫌疑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這四人各自做了兩句供詞，如下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Ａ：『我們四人都不是殺害富翁的兇手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Ｂ：『我是第二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Ｃ：『我是第三個到富翁家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離開富翁家的時候他還活著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Ｄ：『兇手不是在我去富翁家之後離開的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『我到富翁家的時候他已經死了。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後發現其實四人說的每一句都是謊話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知道到底是誰殺害了富翁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5T18:24:42Z</dcterms:created>
  <dc:creator>User</dc:creator>
  <dc:description/>
  <dc:language>en-US</dc:language>
  <cp:lastModifiedBy/>
  <dcterms:modified xsi:type="dcterms:W3CDTF">2018-05-16T00:14:1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28-9.1.0.4811</vt:lpwstr>
  </property>
</Properties>
</file>