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E3E17-FD0F-4027-B749-30F61B7A94F4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9168E-A9CE-48CA-8C88-F5EFD9E25ECE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FE9D9-D319-4A5C-BA1A-8712852AAAEB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9BB21-0FE3-4CE9-BD8E-9AC4A8A78FC1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B3F4D-6689-409F-B820-BC58B6F89684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ADAA2-1199-4114-A68B-636EAD0DC1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63F1F-677B-42AC-A58D-2662B734F4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B9ED7-749C-43CA-9127-1F61D01BB7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5A582-1FBB-47EE-962D-9C63444958AB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330B-292E-41AC-9131-D154A12BF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5D2F-A943-44E4-9704-54F4D40B6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A146-4DA5-42F8-BC01-AFA9AD1E4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797E-105D-4424-8E45-03E67D076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0F51F-DD83-44E0-BD0E-CEE87C4AE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401BA-CE3A-41CD-A50D-2FA4F60F5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4493D-0ECD-4C17-9F98-E64D59E38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6DCCA-7A27-4CF2-9B14-6435E0B92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8C0BB-E2BF-4461-A4D6-C0510A330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295AF-E60C-4266-93FC-2E263271F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D2B07-49EF-412A-8833-6B47C6821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1F71-D988-49EF-9D1D-3FDA4798E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5FD5B-68FF-40BC-917B-929ADBA6C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89F43-030D-40CD-BBA3-043EB9837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A2C94-5871-44B0-9DD5-70C9ADC9A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DD602-2829-4445-A755-D5F8E0461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CD638-BCEC-40A7-B36E-BC4137D05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486A7-2CE2-4FDF-8612-0125D20E7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62271-B0FF-4543-B49C-ADDE9B097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DA5DD-3CA5-42F2-9888-A81B10213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54BE7-7CDD-4E80-A5F4-1CFA0BE43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F81AF-8B01-478E-BBF6-E03AA480A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8056-A60E-49CD-995A-E4A9A1D9A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86176-7E9D-4E01-8DEF-F9242F8D2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806CA-63D3-4268-A324-B9D2CA193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EF4CB-4017-4AF5-A7A8-541D57C57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BDE05-8E7C-4A8E-AA7D-170A5B294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DF3CD-3BE9-4D0E-B29E-A9B5CC5F4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E3DA4-113E-4FD8-8DAD-6C3D2C1DF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1B073-0C7A-4075-995E-8F82EF68D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9B354A-EB87-4032-91AC-CD2B10F64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BBBD5-9908-43D1-88AC-F13F60C4A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93B60-B33C-4E06-8412-B3E252B3F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3B76-8FFF-4DA3-8B70-8C56D1947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07639-98C0-4902-9CC7-96E95CC63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4865B-83AE-4F7D-880E-DB8D85FAF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BFA56-A04C-4713-8F05-FEA5FE034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6D313-0ADB-4744-8E4C-27D73559B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ABEFC-9906-42B3-9E5E-BFC82B9D6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90D5A-1CF9-430E-9A62-DAE532489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6F8E4-C59B-464C-8409-672BB276D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68006-9E40-4982-9E3E-D48F072FD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52EB15-9270-4ED8-BDB5-4805140AC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6BD2AB-FB3F-4338-A4BC-3DEE86022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8BDC-F016-4CA1-8FE7-110DDEB2A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8F626E-0B97-4A2B-8F75-DA9FB69FD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221D6E-E2CB-46B1-B507-84499C1FD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F19A78-08A1-4E05-811A-F88375313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205AE0-A46F-4309-A32C-A4C9023CA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9E2607-2164-4C2F-B0E7-D521DF62A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179D9A-CBFF-42D7-8AD0-B8BCF72A4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23C1BB-5691-486B-AB4F-753E1BB75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D3B0A0-0B86-4201-9C26-AD2F1C3B3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AA20F2-C8DF-4529-B827-A8E410793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F1048C-CC4E-40A9-95F1-AD4959B6B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DA50-98EA-4B6B-A0DB-E5F11C199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BC73B6-FB3B-4088-9B8F-75AF2097D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DCFA-CD4B-4B22-A8C0-52E6887F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0FE4-5FCF-47BE-8B8D-106A9AAC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8BE9-4F01-42E5-BBB0-135140D54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圓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A4F4F-CBA5-4474-BDEB-55A9184AADB4}" type="slidenum">
              <a: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圓角矩形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4B096-46DA-47AF-9935-A1D36771AB64}" type="slidenum">
              <a: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圓角矩形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圓角矩形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矩形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6F0BC-31FE-4273-838F-C94C170FCBBE}" type="slidenum">
              <a: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圓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圓角矩形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4BE2B-4661-4589-98C8-51936379449D}" type="slidenum">
              <a: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圓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D9746-D5FE-401A-812C-A47202841445}" type="slidenum">
              <a: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Franklin Gothic Book"/>
              </a:rPr>
              <a:t>閱讀英文文獻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696464"/>
                </a:solidFill>
                <a:latin typeface="Franklin Gothic Book"/>
              </a:rPr>
              <a:t>閱讀英文期刊的技巧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設定閱讀的目標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與自己研究有關的主題、理論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上圖書館網站進行資料搜集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閱讀之方法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瀏覽、略讀、深讀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針對有價值的文章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先閱讀摘要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找到全文中心論點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(thesis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找出你想細讀的部分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ntroduction, Literature review, Methods, Results, Discuss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對自己的論文有何幫助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運用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Q3R:</a:t>
            </a: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urvey, Question, Read, Recite, Review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作筆記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整理出重要的論述與數據，有哪些重要的發現與解釋，可跟自己的論文作呼應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累積字彙的能力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696464"/>
                </a:solidFill>
                <a:latin typeface="Franklin Gothic Book"/>
              </a:rPr>
              <a:t>閱讀第一手資料提升學術素養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閱讀自己研究領域的重要著作，通常都是專書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閱讀被引用最多的期刊文章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日期版面配置區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C9419-0E3F-4794-9892-F5B0E255813B}" type="datetime">
              <a:rPr b="0" lang="zh-TW" sz="1400" spc="-1" strike="noStrike">
                <a:solidFill>
                  <a:srgbClr val="696464"/>
                </a:solidFill>
                <a:latin typeface="Perpetua"/>
              </a:rPr>
              <a:t>115/0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696464"/>
                </a:solidFill>
                <a:latin typeface="Franklin Gothic Book"/>
              </a:rPr>
              <a:t>提升英文能力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: Watch TV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6" name="Picture 4" descr="j0229385"/>
          <p:cNvPicPr/>
          <p:nvPr/>
        </p:nvPicPr>
        <p:blipFill>
          <a:blip r:embed="rId1"/>
          <a:stretch/>
        </p:blipFill>
        <p:spPr>
          <a:xfrm>
            <a:off x="611280" y="1844640"/>
            <a:ext cx="3673440" cy="25369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superman_flying"/>
          <p:cNvPicPr/>
          <p:nvPr/>
        </p:nvPicPr>
        <p:blipFill>
          <a:blip r:embed="rId2"/>
          <a:stretch/>
        </p:blipFill>
        <p:spPr>
          <a:xfrm>
            <a:off x="4859280" y="1197000"/>
            <a:ext cx="3633840" cy="27669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8" descr="brokeback-732801"/>
          <p:cNvPicPr/>
          <p:nvPr/>
        </p:nvPicPr>
        <p:blipFill>
          <a:blip r:embed="rId3"/>
          <a:stretch/>
        </p:blipFill>
        <p:spPr>
          <a:xfrm>
            <a:off x="4284720" y="3573360"/>
            <a:ext cx="3849480" cy="28879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日期版面配置區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E2056-E386-4BD2-BEAB-C506CD40D241}" type="datetime">
              <a:rPr b="0" lang="zh-TW" sz="1400" spc="-1" strike="noStrike">
                <a:solidFill>
                  <a:srgbClr val="696464"/>
                </a:solidFill>
                <a:latin typeface="Perpetua"/>
              </a:rPr>
              <a:t>115/0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Read newspaper/magazin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2" name="Picture 5" descr="YEP%20Newspaper%20Cutout%20S001"/>
          <p:cNvPicPr/>
          <p:nvPr/>
        </p:nvPicPr>
        <p:blipFill>
          <a:blip r:embed="rId1"/>
          <a:stretch/>
        </p:blipFill>
        <p:spPr>
          <a:xfrm>
            <a:off x="395280" y="1484280"/>
            <a:ext cx="5446800" cy="4468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7" descr="mw_6_2005_stor"/>
          <p:cNvPicPr/>
          <p:nvPr/>
        </p:nvPicPr>
        <p:blipFill>
          <a:blip r:embed="rId2"/>
          <a:stretch/>
        </p:blipFill>
        <p:spPr>
          <a:xfrm>
            <a:off x="6084720" y="1700280"/>
            <a:ext cx="2381400" cy="30859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9" descr="PC1000"/>
          <p:cNvPicPr/>
          <p:nvPr/>
        </p:nvPicPr>
        <p:blipFill>
          <a:blip r:embed="rId3"/>
          <a:stretch/>
        </p:blipFill>
        <p:spPr>
          <a:xfrm>
            <a:off x="6700680" y="3716280"/>
            <a:ext cx="2192400" cy="306864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日期版面配置區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61B14-0D5E-4EE5-897D-4F057D9D7201}" type="datetime">
              <a:rPr b="0" lang="zh-TW" sz="1400" spc="-1" strike="noStrike">
                <a:solidFill>
                  <a:srgbClr val="696464"/>
                </a:solidFill>
                <a:latin typeface="Perpetua"/>
              </a:rPr>
              <a:t>115/0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Youtube video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696464"/>
                </a:solidFill>
                <a:latin typeface="Franklin Gothic Book"/>
              </a:rPr>
              <a:t>我喜歡的動畫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1T08:37:05Z</dcterms:created>
  <dc:creator>Windows 使用者</dc:creator>
  <dc:description/>
  <dc:language>en-US</dc:language>
  <cp:lastModifiedBy>Windows 使用者</cp:lastModifiedBy>
  <dcterms:modified xsi:type="dcterms:W3CDTF">2011-06-07T06:01:46Z</dcterms:modified>
  <cp:revision>9</cp:revision>
  <dc:subject/>
  <dc:title>閱讀英文文獻</dc:title>
</cp:coreProperties>
</file>