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6F50-1D12-4736-B403-3DFA180443A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6DF7-E368-4460-B7CF-152BB67E5157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5554-EFA9-4029-A6EC-3B5159375FDA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3B4A-420E-405A-AEBA-64616EE8CBF4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CCF3-8E5D-4546-8D19-937891968109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B3AF-F91E-419F-B959-45DC9964CC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57AE-E475-441B-B23F-BC03E448F4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A23E-46C9-4B56-940F-2822F2D3D6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494D-7A7B-48F7-8E2D-2D9A833EE28C}" type="slidenum">
              <a:rPr b="0" lang="zh-TW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5A9F-7048-47F9-97BD-BA7EA7C10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60B9-7E40-4420-8473-884A7C97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9686-1B08-42D8-AE79-D5B06E7B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EDD9-D7CA-4E51-B5C2-8158EA933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842F-221A-4F8E-B4EB-9ECFBC5D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C513-537F-4B1E-8FED-B55BBE3C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ADBF-9534-4A4B-8EB9-4F15AE0B5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FC6E-08AD-4DAB-91C6-0BFE5AE7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1F3B-4630-4A61-BA03-A295FD7D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4A78-4AAB-44CF-8327-437C2E7A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3445-DCC9-40F7-AB1D-CD683276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D8FF-911F-4121-870C-7B39348A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2DF9-BDFA-4161-9F84-9C942957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8BB4-64AC-4905-B3A8-F03F8B00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52FF-9253-4EB1-AD23-E26A7D35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E263-3F72-4C4F-A425-A5C567EF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AC76-E53D-4D8B-974C-DF8054C0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F6678-5E06-41B4-A29C-264CB96D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29884-7A13-4B60-8A94-71E00A6F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86309-F982-4B86-9FB0-72E7B9EC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DF6C7-1C77-4CAC-AFF3-7D7ED2A05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39EE3-FB44-47C0-BC47-60C1CE1C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04E1-1733-4411-BDC1-34C667C3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F2129-F2B3-41EC-98B5-FC4F67FA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A2468-4280-4CB6-BAAA-B0B620E0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D93C6-8C57-45DE-B1FC-3D36A5B2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410F0-C10C-423E-A7EA-D1E61C24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C2047-5E48-44CA-9623-58D92592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0702E-259F-4811-8F59-DDBD1EDE1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4202A-CC64-4AC2-99B6-55D31FD15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56D0B-0A7C-463E-A038-CCEBE0DED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85642-C97E-422B-BB37-F72D7F5B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40ECE-A01D-4A13-A1E2-DDB81FC4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E863-A01F-4D67-BFC8-BCCB1713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9BA1A-5B65-4748-8C74-8FED37BE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4E8A1-EA0C-4B23-8E83-4FC6CC4D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F0F86-B638-4886-A13F-D5166D22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5C70F-D17C-412E-B594-23BDA612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10FEE-B278-491D-9CCC-F566D557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73238-FE8B-4325-9FAB-67E3A121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2BCC2-34CB-4C66-A8D3-A24A75B2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B0CC5-53C5-4D5B-98EC-B77A61FB9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582D8-A764-4B3C-AB72-44C91D95C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9B436-9EDB-4FFE-9B27-B7C1CC6D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DE52-97ED-402A-9036-6AAEA115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9816D-09C7-468B-8C7A-78BF6FF1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37208-7B76-432C-B874-163C08F7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D9C24-C08C-4431-B333-B55A7C11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C1658-7649-421B-B2A1-8447F801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5E24B-7EE0-4FBF-9C75-807BC4B93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A67FC-62BB-499C-98D9-B7DE75B2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31F88-3F88-4EFE-8B63-FD312140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E4D4A-25DA-458A-BEA8-7ED514AF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089E2-6B4B-4B2E-A41D-7E3E7DD1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A5223-583A-48B1-BB95-C7E964EA5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2C55-7491-4CE5-AC64-89A0FF5B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2C9E3-7192-4876-8F74-98043403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8EAF-66EB-4BEE-B015-4AD9A435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2DB9-39F2-4FA4-BA2C-2255CBCC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3EB1-6DBA-4A75-8259-6CC7A913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292A-6341-45E6-B09D-BEEC927EF0D0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圓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F115-827E-4FC2-AF7C-CB602386E9A4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圓角矩形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圓角矩形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矩形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75A4-AE3D-483B-A52D-9ADBB6A55C94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圓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3D31-F347-480A-B8CF-6C6605913B03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7E7D-75A0-4D20-9FE9-71A7BDD6BEF5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Franklin Gothic Book"/>
              </a:rPr>
              <a:t>閱讀英文文獻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英文期刊的技巧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設定閱讀的目標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與自己研究有關的主題、理論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上圖書館網站進行資料搜集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之方法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瀏覽、略讀、深讀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針對有價值的文章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先閱讀摘要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找到全文中心論點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(thesi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找出你想細讀的部分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25600" indent="-21924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ntroduction, Literature review, Methods, Results, Discuss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對自己的論文有何幫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運用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Q3R:</a:t>
            </a: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urvey, Question, Read, Recite, Review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作筆記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Perpetua"/>
              </a:rPr>
              <a:t>整理出重要的論述與數據，有哪些重要的發現與解釋，可跟自己的論文作呼應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累積字彙的能力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閱讀第一手資料提升學術素養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自己研究領域的重要著作，通常都是專書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Perpetua"/>
              </a:rPr>
              <a:t>閱讀被引用最多的期刊文章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FB0C-488E-452C-BB1E-30544728B7ED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提升英文能力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: Watch TV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4" descr="j0229385"/>
          <p:cNvPicPr/>
          <p:nvPr/>
        </p:nvPicPr>
        <p:blipFill>
          <a:blip r:embed="rId1"/>
          <a:stretch/>
        </p:blipFill>
        <p:spPr>
          <a:xfrm>
            <a:off x="611280" y="1844640"/>
            <a:ext cx="3673440" cy="2536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superman_flying"/>
          <p:cNvPicPr/>
          <p:nvPr/>
        </p:nvPicPr>
        <p:blipFill>
          <a:blip r:embed="rId2"/>
          <a:stretch/>
        </p:blipFill>
        <p:spPr>
          <a:xfrm>
            <a:off x="4859280" y="1197000"/>
            <a:ext cx="3633840" cy="27669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brokeback-732801"/>
          <p:cNvPicPr/>
          <p:nvPr/>
        </p:nvPicPr>
        <p:blipFill>
          <a:blip r:embed="rId3"/>
          <a:stretch/>
        </p:blipFill>
        <p:spPr>
          <a:xfrm>
            <a:off x="4284720" y="3573360"/>
            <a:ext cx="3849480" cy="2887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37F0-9AB6-4414-87E8-F60C274CFE86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ead newspaper/magazin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2" name="Picture 5" descr="YEP%20Newspaper%20Cutout%20S001"/>
          <p:cNvPicPr/>
          <p:nvPr/>
        </p:nvPicPr>
        <p:blipFill>
          <a:blip r:embed="rId1"/>
          <a:stretch/>
        </p:blipFill>
        <p:spPr>
          <a:xfrm>
            <a:off x="395280" y="1484280"/>
            <a:ext cx="5446800" cy="4468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mw_6_2005_stor"/>
          <p:cNvPicPr/>
          <p:nvPr/>
        </p:nvPicPr>
        <p:blipFill>
          <a:blip r:embed="rId2"/>
          <a:stretch/>
        </p:blipFill>
        <p:spPr>
          <a:xfrm>
            <a:off x="6084720" y="1700280"/>
            <a:ext cx="2381400" cy="3085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9" descr="PC1000"/>
          <p:cNvPicPr/>
          <p:nvPr/>
        </p:nvPicPr>
        <p:blipFill>
          <a:blip r:embed="rId3"/>
          <a:stretch/>
        </p:blipFill>
        <p:spPr>
          <a:xfrm>
            <a:off x="6700680" y="3716280"/>
            <a:ext cx="2192400" cy="30686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日期版面配置區 3"/>
          <p:cNvSpPr/>
          <p:nvPr/>
        </p:nvSpPr>
        <p:spPr>
          <a:xfrm>
            <a:off x="6172200" y="6191280"/>
            <a:ext cx="2476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76B2-288D-4F05-8A5A-0A37DA776C2D}" type="datetime">
              <a:rPr b="0" lang="zh-TW" sz="1400" spc="-1" strike="noStrike">
                <a:solidFill>
                  <a:srgbClr val="696464"/>
                </a:solidFill>
                <a:latin typeface="Perpetua"/>
              </a:rPr>
              <a:t>115/0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Youtube video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我喜歡的動畫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1T08:37:05Z</dcterms:created>
  <dc:creator>Windows 使用者</dc:creator>
  <dc:description/>
  <dc:language>en-US</dc:language>
  <cp:lastModifiedBy>Windows 使用者</cp:lastModifiedBy>
  <dcterms:modified xsi:type="dcterms:W3CDTF">2011-06-07T06:01:46Z</dcterms:modified>
  <cp:revision>9</cp:revision>
  <dc:subject/>
  <dc:title>閱讀英文文獻</dc:title>
</cp:coreProperties>
</file>